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B11-A186-4AA7-AA5E-1C27DE62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42B-9A5C-4BE6-A0FE-1EAA066D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DF7-CA47-4757-B0B0-B27DD7B0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7D4-FB89-48E7-9A76-998A86C8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B3B6-E188-4EA8-85F5-3D6E20A1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5EAC-779D-4EA6-9A2D-8AFBAE50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791B-BCAB-4317-A49E-1F7A8431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5B1A-874F-48B9-BF31-9BDD8808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9725-AD99-465C-934F-3C94152D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9EA6-BB82-4A21-9E53-88602045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67AA-5FD0-40AE-A833-D124A45D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F27-DDE4-4DB9-8358-B7DF0BF1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0ADE-2EE4-4323-9AD1-571D963A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1A9C-A51A-404F-B808-85D2E805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3F13-1DB3-416D-A075-EB03189E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2914-A46B-41AD-99B9-3FFFC723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6AA2-DC6B-4A04-9DF9-A8B4036C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BCE-99B4-43C1-BC91-443D2A16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369-A39E-45EC-B4A3-C69C4129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766-5FDA-4D0F-B5D2-815C2728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F91-E137-4EDB-B071-00C3D3CC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FF4-5164-4753-8958-74D4B52A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DF9-0D32-486B-B126-1ABFC40D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E4B-F51E-42B2-B0D6-E6104B8F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0282-3A1E-4FF8-B121-2E21A90394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5264-60EF-41F5-A623-34C244A592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animalpix.ru/wallpapers/276.html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69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Особенности подбора певчих и декоративных птиц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иноземного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роисхождения в уголках природы разных возрастных групп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Попугаи фото"/>
          <p:cNvPicPr/>
          <p:nvPr/>
        </p:nvPicPr>
        <p:blipFill>
          <a:blip r:embed="rId1"/>
          <a:stretch/>
        </p:blipFill>
        <p:spPr>
          <a:xfrm>
            <a:off x="3048120" y="4724280"/>
            <a:ext cx="350496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попугаи - пара попугаев сидят на жердочке, для мобильного телефона"/>
          <p:cNvPicPr/>
          <p:nvPr/>
        </p:nvPicPr>
        <p:blipFill>
          <a:blip r:embed="rId2"/>
          <a:stretch/>
        </p:blipFill>
        <p:spPr>
          <a:xfrm>
            <a:off x="990720" y="4724280"/>
            <a:ext cx="176184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Обои для рабочего стола - Ар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4724280"/>
            <a:ext cx="2057400" cy="2133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57800" y="3808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а студентка -Вахнина Ю., 636 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Младшая групп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Птица в клетке как временный объе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281952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00400" y="6172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крепить название птицы, знание характерных признаков внешнего вида (отметить, что у птицы есть перья, крылья, она летает; клюёт зёрнышки и т.д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редняя групп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46483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57800" y="5029200"/>
            <a:ext cx="251460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71600" y="502920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69080" y="46483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133720"/>
            <a:ext cx="7925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очнить и дополнить знания детей о внешнем виде и повадках птиц. Учить более точно описывать птиц (у неё маленькая голова; маленькие чёрные круглые глаза; тонкие ножки, на них пальцы и т.д.). Расширить знания детей о повадках птички: она купается в воде, чистит пёрышки, поёт. Уточнить и дополнить знания о птичках, её корме. Укреплять интерес к птицам и уходу за ней. Закрепить знания слов: кормушка, купалка, поилк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аршая групп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48560" y="6248160"/>
            <a:ext cx="1458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72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724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ис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5880" y="52578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657600" y="525780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066680" y="5257800"/>
            <a:ext cx="1981440" cy="1295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18480" y="472932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0574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точнить знания детей о повадках птиц. Продолжать воспитывать бережное отношение к ним и желание заботиться о хорошем их состоянии. Разнообразить работу дежурных по уходу за птицами, живущих в уголке прир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одготовительная группа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57320" y="4724280"/>
            <a:ext cx="183816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14400" y="59436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лнистый попугайч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3716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59436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5943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ис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72200" y="4724280"/>
            <a:ext cx="1981080" cy="1219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190476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781680" y="2362320"/>
            <a:ext cx="2057400" cy="1447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8168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828800"/>
            <a:ext cx="5638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очнить и расширить знания детей о птицах, живущих в уголке природы. Познакомить с новым жильцом уголка – волнистым попугайчиком. Показать своеобразие внешнего вида и повадок: у него загнутый клюв с восковицей, длинный свисающий хвост, на ногах 2 пальца, направленных вперёд, 1 – назад, окраска пёстрая, рисунок в виде волн, попугайчик летает и лазает. Учить сравнивать попугайчика с другими птицами, отмечая различия и сх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D312</cp:lastModifiedBy>
  <dcterms:modified xsi:type="dcterms:W3CDTF">2010-05-17T06:46:1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